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56B-A90A-479A-A839-24DD350B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A6C-AED5-4E90-9555-B93AA0A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83F-5982-4C2A-B461-3939C3F4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BCD-55AC-4B66-A71B-DF31236C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52F-7F91-4119-8C76-C86B972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989-FC2F-4301-8AEC-FBBD0314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E94-0713-481B-964F-D929BEB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469-F89E-47BC-86E4-D8880672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2B9-F8D7-4CEF-8D51-F0814B75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5CE-3B5C-4938-8AF8-9B57A3F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E6D-080D-44DE-AE2F-9E6AB13C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1F1-1914-4C4D-8709-18F8324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7E8E-B672-4C34-BE31-6D14C8F7DD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MondayLMG1-vi.gif"/>
          <p:cNvPicPr/>
          <p:nvPr/>
        </p:nvPicPr>
        <p:blipFill>
          <a:blip r:embed="rId1"/>
          <a:stretch/>
        </p:blipFill>
        <p:spPr>
          <a:xfrm>
            <a:off x="0" y="2433600"/>
            <a:ext cx="9144000" cy="4424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571760" y="157176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What day 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矩形 1" descr=""/>
          <p:cNvPicPr/>
          <p:nvPr/>
        </p:nvPicPr>
        <p:blipFill>
          <a:blip r:embed="rId1"/>
          <a:stretch/>
        </p:blipFill>
        <p:spPr>
          <a:xfrm>
            <a:off x="-115920" y="96840"/>
            <a:ext cx="407844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14200" y="150012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一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o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今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n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一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ue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二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Wedne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三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hurs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四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riday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五         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atur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六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un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星期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birthda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生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avourit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最喜欢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201105170756154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500040" y="12859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ay is it 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Monday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71680" y="2643120"/>
            <a:ext cx="700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hat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uesday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00040" y="421488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What day is your favourite 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avourite day is Satu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矩形 4" descr=""/>
          <p:cNvPicPr/>
          <p:nvPr/>
        </p:nvPicPr>
        <p:blipFill>
          <a:blip r:embed="rId2"/>
          <a:stretch/>
        </p:blipFill>
        <p:spPr>
          <a:xfrm>
            <a:off x="0" y="36360"/>
            <a:ext cx="51084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" descr="2012040422315305_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0" y="14292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Read the dialog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0" y="11430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iss Zhou: Good morning, class.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What day is it 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Ss:          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It is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iss Zhou: Yes,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it is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onday. Write it in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Ss:            M-O-N-D-A-Y,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iss Zhou: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What  day is it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Ss:            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Miss Zhou: Yes, </a:t>
            </a:r>
            <a:r>
              <a:rPr b="0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tomorrow is </a:t>
            </a: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Tues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642960" y="42876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71680" y="1428840"/>
            <a:ext cx="535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Sunda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day is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Sunda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8" descr="xhzkjw_1024180119109.jpg"/>
          <p:cNvPicPr/>
          <p:nvPr/>
        </p:nvPicPr>
        <p:blipFill>
          <a:blip r:embed="rId1"/>
          <a:stretch/>
        </p:blipFill>
        <p:spPr>
          <a:xfrm>
            <a:off x="4071960" y="178596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57160" y="357120"/>
            <a:ext cx="64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714240" y="150012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nd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" descr="BTRFLYmon-vi.gif"/>
          <p:cNvPicPr/>
          <p:nvPr/>
        </p:nvPicPr>
        <p:blipFill>
          <a:blip r:embed="rId1"/>
          <a:stretch/>
        </p:blipFill>
        <p:spPr>
          <a:xfrm rot="549000">
            <a:off x="3322440" y="1891800"/>
            <a:ext cx="54432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2010053160600893.jpg"/>
          <p:cNvPicPr/>
          <p:nvPr/>
        </p:nvPicPr>
        <p:blipFill>
          <a:blip r:embed="rId1"/>
          <a:stretch/>
        </p:blipFill>
        <p:spPr>
          <a:xfrm rot="749400">
            <a:off x="3952440" y="2274480"/>
            <a:ext cx="4297320" cy="39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500040" y="357120"/>
            <a:ext cx="83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71680" y="1214280"/>
            <a:ext cx="53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Tuesd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7585988-vi.jpg"/>
          <p:cNvPicPr/>
          <p:nvPr/>
        </p:nvPicPr>
        <p:blipFill>
          <a:blip r:embed="rId1"/>
          <a:stretch/>
        </p:blipFill>
        <p:spPr>
          <a:xfrm>
            <a:off x="3571920" y="1428840"/>
            <a:ext cx="5572080" cy="521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000080" y="3571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85840" y="121428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Wednes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tattyplaythursday-vi.jpg"/>
          <p:cNvPicPr/>
          <p:nvPr/>
        </p:nvPicPr>
        <p:blipFill>
          <a:blip r:embed="rId1"/>
          <a:stretch/>
        </p:blipFill>
        <p:spPr>
          <a:xfrm rot="20793000">
            <a:off x="4267080" y="2984040"/>
            <a:ext cx="4340520" cy="3416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357200" y="50004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376092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285920" y="128592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바탕"/>
                <a:ea typeface="바탕"/>
              </a:rPr>
              <a:t>It’s </a:t>
            </a:r>
            <a:r>
              <a:rPr b="0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Thursday</a:t>
            </a:r>
            <a:r>
              <a:rPr b="0" lang="en-US" sz="40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바탕"/>
                <a:ea typeface="바탕"/>
              </a:rPr>
              <a:t>Today is </a:t>
            </a:r>
            <a:r>
              <a:rPr b="0" lang="en-US" sz="4000" spc="-1" strike="noStrike">
                <a:solidFill>
                  <a:srgbClr val="ff0000"/>
                </a:solidFill>
                <a:latin typeface="바탕"/>
                <a:ea typeface="바탕"/>
              </a:rPr>
              <a:t>Thursday</a:t>
            </a:r>
            <a:r>
              <a:rPr b="0" lang="en-US" sz="40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k_coloring_page_friday_century-vi.gif"/>
          <p:cNvPicPr/>
          <p:nvPr/>
        </p:nvPicPr>
        <p:blipFill>
          <a:blip r:embed="rId1"/>
          <a:stretch/>
        </p:blipFill>
        <p:spPr>
          <a:xfrm rot="15926400">
            <a:off x="3607920" y="1486800"/>
            <a:ext cx="42483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428840" y="500040"/>
            <a:ext cx="535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What day </a:t>
            </a:r>
            <a:r>
              <a:rPr b="0" lang="en-US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357280" y="142884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ri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bitmap10766-vi.jpg"/>
          <p:cNvPicPr/>
          <p:nvPr/>
        </p:nvPicPr>
        <p:blipFill>
          <a:blip r:embed="rId1"/>
          <a:stretch/>
        </p:blipFill>
        <p:spPr>
          <a:xfrm>
            <a:off x="3071880" y="2214720"/>
            <a:ext cx="6072120" cy="464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642960" y="42876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方正舒体"/>
                <a:ea typeface="方正舒体"/>
              </a:rPr>
              <a:t>What day </a:t>
            </a:r>
            <a:r>
              <a:rPr b="0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is it to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785880" y="13572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aturda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Learning-Materials--Chart-Days-Of-The-Week-17-X-22--FS-36196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0:59:31Z</dcterms:created>
  <dc:creator/>
  <dc:description/>
  <dc:language>en-US</dc:language>
  <cp:lastModifiedBy>Administrator</cp:lastModifiedBy>
  <dcterms:modified xsi:type="dcterms:W3CDTF">2016-03-29T01:02:35Z</dcterms:modified>
  <cp:revision>16</cp:revision>
  <dc:subject/>
  <dc:title>幻灯片 1</dc:title>
</cp:coreProperties>
</file>